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934200" y="6566040"/>
            <a:ext cx="2307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10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05648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T - Introduction - page </a:t>
            </a:r>
            <a:fld id="{E1B1542B-4FC3-4F22-8ED6-A5B837B11F93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11" descr=""/>
          <p:cNvPicPr/>
          <p:nvPr/>
        </p:nvPicPr>
        <p:blipFill>
          <a:blip r:embed="rId2"/>
          <a:stretch/>
        </p:blipFill>
        <p:spPr>
          <a:xfrm>
            <a:off x="173160" y="233280"/>
            <a:ext cx="347652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058760" y="5087880"/>
            <a:ext cx="7313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0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406152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T - Introduction - page </a:t>
            </a:r>
            <a:fld id="{44008FDC-0BEA-4C91-9DAD-DF7DDF2F26B3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9694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2"/>
          <a:stretch/>
        </p:blipFill>
        <p:spPr>
          <a:xfrm>
            <a:off x="173160" y="216000"/>
            <a:ext cx="3476520" cy="484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1014480" y="1752480"/>
            <a:ext cx="6553080" cy="27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536b"/>
                </a:solidFill>
                <a:latin typeface="Arial Narrow"/>
              </a:rPr>
              <a:t>PSP Instructor Training</a:t>
            </a: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9536b"/>
                </a:solidFill>
                <a:latin typeface="Arial Narrow"/>
              </a:rPr>
              <a:t>Lecture: Teaching PSP Courses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PSP Cours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28880" y="1611360"/>
            <a:ext cx="738504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 consists of many individual elements that have been carefully integrated to help engineers improve their personal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benefits of the PSP depend 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ynergy among the ele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progressive introduction strate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assignments themselv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 cour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ver all of the methods and leve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clude programming assignments and repor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PSP Assignmen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gramming assign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ow students to practice the PSP method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enerate the data needed for the P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vide insight into the statistical techniques used in the P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reports help students to understand their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Cours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are multiple PSP courses for develop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 Academic: 16 lecture/10 program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 Part1 &amp; II: 10 day/10 progr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 Part I &amp; II: 10 day/8 progr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 Fundamentals: 5 day/4 progr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 Advanced: 5 day/3 progr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following slides describe these cour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PSP Academic: 16 lecture/10 program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one semester academic cour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ased on original PSP book “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A Discipline for Software Engineering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”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vers full process: PSP0 through PSP3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s have a few days between assign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ed to convince students based on resul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st course resul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alleng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ime (calendar and student) to take the cour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igh instructor travel cos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Part I &amp; II: 10 day/10 program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two class-week course for industr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ased on original PSP book “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A Discipline for Software Engineering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”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vers PSP0 through PSP2.1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bout 3 weeks total effort (4 homework assignments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ed to convince students based on resul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st course result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allenges: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ime to take the cour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th-challenged developers have problems with some assign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ook is not an easy rea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ount of work in allotted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letion ra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Part I &amp; II: 10 day/8 program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two class-week course for industr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ased on 2nd PSP book “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PSP A Self Improvement Process for Software Engineer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”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vers PSP0 through PSP2.1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duced and simplified progra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corporates a little T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just over 2 weeks total eff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ed to convince students based on resul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cceptable course resul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allenges: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ime to take the course (a one week course desired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th-challenged developers have problems with some assign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PSP Fundamentals: 5 day/4 program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one week cour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ased on 2nd PSP book “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PSP A Self Improvement Process for Software Engineer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”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vers most of PSP0 through PSP2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mphasis on what needed for first TSP project, convincing results not a prior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grams same as 1st week of 10 day/8 progr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 analysis rep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ed capstone exercise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corporates a little T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 week total eff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Advanced: 5 day/3 program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one week cour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ased on 2nd PSP book “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PSP A Self Improvement Process for Software Engineer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”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ed to augment PSP Fundaments, covers the parts of PSP not addressed in Fundamentals cour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grams same as first three of the 2nd week of 10 day/8 program cour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cludes an analysis rep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corporates T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 week total eff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0620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Fundamentals/Advanced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017720" y="1709640"/>
          <a:ext cx="7413480" cy="4659480"/>
        </p:xfrm>
        <a:graphic>
          <a:graphicData uri="http://schemas.openxmlformats.org/drawingml/2006/table">
            <a:tbl>
              <a:tblPr/>
              <a:tblGrid>
                <a:gridCol w="1492200"/>
                <a:gridCol w="2963880"/>
                <a:gridCol w="2957400"/>
              </a:tblGrid>
              <a:tr h="457200"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Overview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PSP Fundamental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Students learn to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PSP Advanced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Students learn to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PSP0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 marL="168120" indent="-168120"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follow a defined proces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 marL="168120" indent="-168120"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collect complete, consistent and accurate time, size, defect, and schedule data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 marL="168120" indent="-168120"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define and instrument a proces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 marL="168120" indent="-168120"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evolve a process based on analysis and PIP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120"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PSP1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 marL="168120" indent="-168120"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se a defined estimating process with limited data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 marL="168120" indent="-168120"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nderstand their plan status and project likely completion date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 marL="168120" indent="-168120"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se statistical methods improvement their estimates and calculate prediction interval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 marL="168120" indent="-168120"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se data analysis techniques to examine and improve their estimating proces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PSP2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 marL="168120" indent="-168120"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build personal design and review checklist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 marL="168120" indent="-168120"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conduct a personal review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 marL="168120" indent="-168120"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nderstand their quality status and project likely final quality levels.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 marL="168120" indent="-168120"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create designs that are reviewable and verifiable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 marL="168120" indent="-168120"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verify designs using different technique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 marL="168120" indent="-168120"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se data analysis techniques to examine and improve their overall proces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Capstone Exercise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 marL="168120" indent="-168120"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nderstand and use personal data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 marL="168120" indent="-168120"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work in a team environment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Performance Analysis Report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 marL="168120" indent="-168120"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identify their strengths and weaknesse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 marL="168120" indent="-168120"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set challenging and realistic personal improvement goal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 marL="168120" indent="-168120"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define changes required to achieve goal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mphasis of this Cours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ile this PSP Instructor course, is designed to prepare you to teach multiple versions of the cour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imary emphasis is on preparing you to teach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 Part I &amp; II: 10 day/8 progr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 Fundamentals and PSP Advanc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 Part I &amp; II: 10 day/8 program is available through the SEI’s partner resource websi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 Fundamentals and PSP Advanced are available through the iCarnegie blended learning syste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3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arn by Do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 see and I forget,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 read and I may remember,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 do and I understand.”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 Chinese proverb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s learn the PSP methods by using the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y and practice prepare students to apply the PSP methods after the cla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must make sure that students correctly apply the methods in their assignm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tivating Quality Work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 instructors must motivate students to do quality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rt by insisting that students submit correct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ress the importance of making sure that the students know how to do an assignment before they star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mphasize getting the assignment correct over turning it in on tim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ake Quality Clea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17360" y="1533240"/>
            <a:ext cx="7391160" cy="48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Quality work is often defined as conformance to specific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this clear to students by insisting th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ignments include the proper for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cess forms are completed correctl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fusing to accept assignments that do not conform to the specification will dramatically improve the quality of a student’s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vide Rapid Feedback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apid feedback is key in learning the PS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ever possib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plans and estimates before develop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 a quick check for correctness when assignments are submitt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rade and return assignments before the next assignment begi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Recognize Individual Abiliti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instructor must recognize and encourage each student’s unique abilit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dividual performance will vary widel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rading should emphasize the students’ ability to improve and to use their data to change their behavio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 not base grades on absolute performance!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Use of PSP Class Dat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sent class data to the students whenever possib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 evaluations indicate that the presentation of class data enhances learn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 data helps students to see the benefits of using the methods taught in the cour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general, students find it easier to accept their own results when class data is present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alysis of class data by the instructor helps students to understand how data may be us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aintain Confidentialit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17720" y="1544400"/>
            <a:ext cx="7400880" cy="48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Under no circumstances should any individual student’s data be presented to the class!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senting either good or bad results can affect the quality of data report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senting class data is encourag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 data from other classes may be presented if confidentiality can be maintain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 is introduced in progressive steps, where each step provides the foundation for the nex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ourse lectures, exercises, and reports were designed to implement this strateg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tivate your students to do quality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lecture will help you to understan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ourse desig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 cour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mmended approach to teaching the P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aching/grad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senting class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39680" y="1709640"/>
            <a:ext cx="74138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rse objectives and pre-requisi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 cour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aching and grading strate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class data as a teaching too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Course Objectiv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39680" y="1709640"/>
            <a:ext cx="74138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bjective of the PSP courses is to introduce software engineers to disciplined methods for producing quality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their own data, engineers demonstrate the value of these methods and convince themselves to apply disciplined methods in their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s learn to define, measure, plan, control, and improve their personal work process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Course Prerequisit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39680" y="1709640"/>
            <a:ext cx="74138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rse prerequisites for stud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luency in at least one programming language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velopment environment for this languag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itional guidelines for stud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amiliarity with basic statistics and simple formal notations is helpful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s should use the language in which they are most flu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Course Focu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17360" y="1477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ccessful instructors keep students focused on the course objectiv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arning to use the P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athering process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data to improve performan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 is not a programming course!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aluate students on the quality of their process and the accuracy of their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Do not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evaluate the students’ progr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courage students to keep their programs simp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arning Strategy for the PSP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 is introduced in step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ch step builds a foundation for the next ste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ing the learning objectives for each level will help you to build the proper found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Building the Found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37880" y="5735520"/>
            <a:ext cx="303516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With PSP0, engineers learn to use a process and gather data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4876920" y="5651640"/>
            <a:ext cx="3276360" cy="533160"/>
          </a:xfrm>
          <a:prstGeom prst="rect">
            <a:avLst/>
          </a:prstGeom>
          <a:solidFill>
            <a:srgbClr val="87a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Baseline Proces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PSP0 and PSP0.1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5943600" y="4923000"/>
            <a:ext cx="1085760" cy="60948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87a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4819680" y="4330800"/>
            <a:ext cx="3333600" cy="533160"/>
          </a:xfrm>
          <a:prstGeom prst="rect">
            <a:avLst/>
          </a:prstGeom>
          <a:solidFill>
            <a:srgbClr val="87a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Personal Project Planning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PSP1 and PSP1.1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1038240" y="4280040"/>
            <a:ext cx="312912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With PSP1, engineers learn to build high-quality plan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1800" spc="-1" strike="noStrike">
                <a:solidFill>
                  <a:srgbClr val="99ccff"/>
                </a:solidFill>
                <a:latin typeface="Arial"/>
              </a:rPr>
              <a:t>To build high-quality plans, you need data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4808520" y="2951280"/>
            <a:ext cx="3344760" cy="533160"/>
          </a:xfrm>
          <a:prstGeom prst="rect">
            <a:avLst/>
          </a:prstGeom>
          <a:solidFill>
            <a:srgbClr val="87a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Personal Quality Management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PSP2 and PSP2.1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4" name="AutoShape 11"/>
          <p:cNvSpPr/>
          <p:nvPr/>
        </p:nvSpPr>
        <p:spPr>
          <a:xfrm>
            <a:off x="5937120" y="3583080"/>
            <a:ext cx="1089000" cy="60948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87a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1028880" y="2927520"/>
            <a:ext cx="31384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With PSP2, engineers learn to build high-quality part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1800" spc="-1" strike="noStrike">
                <a:solidFill>
                  <a:srgbClr val="99ccff"/>
                </a:solidFill>
                <a:latin typeface="Arial"/>
              </a:rPr>
              <a:t>To build high-quality parts, you need high-quality plan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4794120" y="1577880"/>
            <a:ext cx="3359160" cy="533520"/>
          </a:xfrm>
          <a:prstGeom prst="rect">
            <a:avLst/>
          </a:prstGeom>
          <a:solidFill>
            <a:srgbClr val="87a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eam Software Proces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SP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7" name="AutoShape 15"/>
          <p:cNvSpPr/>
          <p:nvPr/>
        </p:nvSpPr>
        <p:spPr>
          <a:xfrm>
            <a:off x="5925960" y="2187720"/>
            <a:ext cx="1094040" cy="60948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87a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1028880" y="1620720"/>
            <a:ext cx="315252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With TSP, teams learn to build high-quality program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1800" spc="-1" strike="noStrike">
                <a:solidFill>
                  <a:srgbClr val="99ccff"/>
                </a:solidFill>
                <a:latin typeface="Arial"/>
              </a:rPr>
              <a:t>To build high-quality programs, you need high-quality part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10-25T14:04:56Z</cp:lastPrinted>
  <dcterms:modified xsi:type="dcterms:W3CDTF">2018-09-06T01:08:10Z</dcterms:modified>
  <cp:revision>210</cp:revision>
  <dc:subject/>
  <dc:title>No Slide Title</dc:title>
</cp:coreProperties>
</file>